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e0e0e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e0e0e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191936"/>
              </a:gs>
              <a:gs pos="100000">
                <a:srgbClr val="000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9080" y="52560"/>
            <a:ext cx="1520640" cy="1663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53080" y="152280"/>
            <a:ext cx="1676520" cy="88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15200" y="990720"/>
            <a:ext cx="1658880" cy="78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e0e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o th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e0e0"/>
                </a:solidFill>
                <a:latin typeface="Times New Roman"/>
              </a:rPr>
              <a:t>15</a:t>
            </a:r>
            <a:r>
              <a:rPr b="1" lang="en-US" sz="2400" spc="-1" strike="noStrike" baseline="30000">
                <a:solidFill>
                  <a:srgbClr val="e0e0e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e0e0e0"/>
                </a:solidFill>
                <a:latin typeface="Times New Roman"/>
              </a:rPr>
              <a:t> AAS/AIAA Space Flight Mechanics Conferenc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Copper Mountain Conference Center, Colorado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January 23 to 27, 2005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Acknowledgments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Committee Chairmen and Committee Member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Session Chairs / Special Session Chair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Volunteers at the Registration Desk, and Paper Sales Desk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LCD Projectors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Don Mackison CU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David Vallado AGI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Laptops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Don Mackison CU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Session chair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Prof Dan Scheeres, Breakwell Student Award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Dr. Shannon Coffey, AAS Web Site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Copper Mountain Staff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Conference Chairmen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AAS General Chair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David Vallado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AAS Technical Chair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Michael Gabor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AIAA General Chair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Keith Jenkin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AIAA Technical Chair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Prasun Desai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Events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Monday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Brouwer Award Lecture by Prof Kathleen Howell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7:45 – 9:15 pm  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uesday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Conference Social at Copper South Hall 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7:15 – 9:30 pm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Changes, Comments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ession 9 Constellations Several Paper Schedule Change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See schedule on door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apers/Registration combined upstair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7:00 – 10:00 AM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4:00 – 7:00 PM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Extra</a:t>
            </a:r>
            <a:r>
              <a:rPr b="0" lang="en-US" sz="4000" spc="-1" strike="noStrike">
                <a:solidFill>
                  <a:srgbClr val="00cece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ki Attire Appropriat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aper Sale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$1.00 each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High Altitud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We’re at 9700’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Drink plenty of water</a:t>
            </a: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c000c0"/>
              </a:buClr>
              <a:buSzPct val="62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e0e0"/>
                </a:solidFill>
                <a:latin typeface="Times New Roman"/>
              </a:rPr>
              <a:t>Run your humidifier in your room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hauncey Uphoff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Full Moon – Jan 25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Student Travel Award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st Paper Award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rouwer talk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3T20:46:00Z</dcterms:created>
  <dc:creator>David Vallado</dc:creator>
  <dc:description/>
  <dc:language>en-US</dc:language>
  <cp:lastModifiedBy>dvallado</cp:lastModifiedBy>
  <cp:lastPrinted>2001-07-26T03:54:26Z</cp:lastPrinted>
  <dcterms:modified xsi:type="dcterms:W3CDTF">2005-01-25T00:43:37Z</dcterms:modified>
  <cp:revision>63</cp:revision>
  <dc:subject>J2000 Paper</dc:subject>
  <dc:title>No Slide Title</dc:title>
</cp:coreProperties>
</file>